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09EA-DB30-4664-BAE4-791CAD207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B411-350C-468F-AC32-3E63F44D0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DC6D-D2FA-4B7C-A317-55DBC9E90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FCC8-6B56-41B8-9E66-389DB00AE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C75C-A3C6-49AB-8FDE-A34E546EF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B746-589B-4540-B1BC-CBBD963EE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03E6-AB7A-4229-817F-886A0FB6D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A3DC-0E28-40CB-A7F1-33135C0B3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3E5E-3360-487D-A9DC-ECF2F2E93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4B60-D7AE-4DF1-8CDD-F4BA6227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28D7-5CB1-464D-9B37-D9127753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0BC9-55ED-408C-AC69-F3C4FAD8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4FB19-DAD0-44BE-AA81-1C5921E55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0"/>
            <a:ext cx="889308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s j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óv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quieren rebela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quieren tomar sus propias decis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o quieren que les traten como ni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on muy conscientes de su imagen y quiere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entir que pertenecen a un grupo y no son diferent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los dem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o quieren que les digan qué tienen qu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ha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o quieren actuar como adul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68360" y="5084640"/>
          <a:ext cx="8351640" cy="1370160"/>
        </p:xfrm>
        <a:graphic>
          <a:graphicData uri="http://schemas.openxmlformats.org/drawingml/2006/table">
            <a:tbl>
              <a:tblPr/>
              <a:tblGrid>
                <a:gridCol w="4176720"/>
                <a:gridCol w="4174920"/>
              </a:tblGrid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gunos dir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ían que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o la realidad es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e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os jóvenes – frases con ‘Estar’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066680"/>
            <a:ext cx="48006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tar a la mo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tar en el pa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tar en la flor de la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tar pe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tar sin blan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tar ve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tar de mal hum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tar que ra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tar en la edad del pa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tar de mie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8320" y="1066680"/>
            <a:ext cx="373356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be in the prime o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be hopping m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be a real crac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be bro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be bad temp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be tren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be slo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be at that awkward s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be inexperien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be unemplo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18:11:34Z</dcterms:created>
  <dc:creator>Chris Fuller</dc:creator>
  <dc:description/>
  <dc:language>en-US</dc:language>
  <cp:lastModifiedBy>Owner1</cp:lastModifiedBy>
  <dcterms:modified xsi:type="dcterms:W3CDTF">2008-09-24T18:01:17Z</dcterms:modified>
  <cp:revision>2</cp:revision>
  <dc:subject/>
  <dc:title>Los jóvenes – frases con ‘Estar’…</dc:title>
</cp:coreProperties>
</file>